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072953"/>
        <c:axId val="94889703"/>
      </c:barChart>
      <c:catAx>
        <c:axId val="680729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89703"/>
        <c:crosses val="autoZero"/>
        <c:auto val="1"/>
        <c:lblAlgn val="ctr"/>
        <c:lblOffset val="100"/>
        <c:noMultiLvlLbl val="0"/>
      </c:catAx>
      <c:valAx>
        <c:axId val="948897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729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187A-8FC1-4DC1-85ED-645F1F0A6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05EA-CA6D-4A33-BD88-9BC25AD3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5624-1D27-4459-8628-655098EAF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945B-4C96-48D4-B4DB-3A61E46AF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B4DF-1403-486D-961E-C04110E7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00AA-229F-4E60-861A-F3545293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978E-2686-4D52-9F5F-B96F9CB4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B6C6-1828-48BC-A87C-09C954B5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526D-ADEA-4355-B7F2-7C7FC314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C5C6-D487-4076-BB8F-18BB507F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8D2F-5210-4966-929C-9F20B55E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CACD-30F3-4BF1-8991-E2F66855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9C071-62E8-49EE-B312-E78C229F4C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