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17549"/>
        <c:axId val="45723409"/>
      </c:barChart>
      <c:catAx>
        <c:axId val="31017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23409"/>
        <c:crosses val="autoZero"/>
        <c:auto val="1"/>
        <c:lblAlgn val="ctr"/>
        <c:lblOffset val="100"/>
        <c:noMultiLvlLbl val="0"/>
      </c:catAx>
      <c:valAx>
        <c:axId val="45723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17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C1A-DA26-425A-8C6C-C1F460EC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81F-5ACF-4E21-B29B-8EFDBA5F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1C9-929E-4651-8773-624EE392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CE6-27A6-47FF-9395-E0C04DF4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453-D45C-4A99-BCFC-AFBBE66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C8D-6161-4C48-AFFB-C9DD87B2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DC9-A5B0-41EE-A314-3BF3E40A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6D1-96AB-4667-B83F-14F5E9C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48C-7A1A-4B9C-8968-AEA56DEB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E94-9205-44D8-8D05-C20EE89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4BC-2589-4781-90B9-006F1F7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10D-F274-421A-8499-AC25F83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E0C7-A045-4516-863C-E52E2221A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