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346843"/>
        <c:axId val="96714316"/>
      </c:barChart>
      <c:catAx>
        <c:axId val="713468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714316"/>
        <c:crosses val="autoZero"/>
        <c:auto val="1"/>
        <c:lblAlgn val="ctr"/>
        <c:lblOffset val="100"/>
        <c:noMultiLvlLbl val="0"/>
      </c:catAx>
      <c:valAx>
        <c:axId val="967143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468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BC91-7427-4AD6-93A5-7725FFDB4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12FC-604B-4154-A044-2861219F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35F5-78A6-4708-BEF1-CD3B0F99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5575-A928-4404-ABD7-BE773D38B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5F71-B17D-45EF-B602-7587B5D2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D2ED-FD4A-4CEB-A09D-23A21648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5902-E9D6-4E02-9818-E5AA4A0E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4CAC-A42E-48B8-BCD2-F06ACCBD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6983-72C8-40DB-9E1A-C1186891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B46D-A082-4AB3-AD09-B44FA3CB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5C66-E0B9-448D-AEFF-E050CF26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062F-8E6D-42EB-9EDE-296D9C22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93344-EAA9-40FC-B4AA-FA7CEE8AB1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