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56509"/>
        <c:axId val="67853997"/>
      </c:barChart>
      <c:catAx>
        <c:axId val="971565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53997"/>
        <c:crosses val="autoZero"/>
        <c:auto val="1"/>
        <c:lblAlgn val="ctr"/>
        <c:lblOffset val="100"/>
        <c:noMultiLvlLbl val="0"/>
      </c:catAx>
      <c:valAx>
        <c:axId val="67853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565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3DB-B129-4EB3-9E24-0EDF8DAD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B7E-B987-462A-B79B-991CA8C4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4EB-61FC-4317-A04E-1EDBB289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956-7197-4E0D-AFBE-280177024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D830-3856-4DB6-98A4-F45499EC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5249-C3EC-4F9D-B1B7-EF506686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C2B-D3A6-427F-85EE-3179C8E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7DBC-DB10-4696-9633-32FD230D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5D9-B9A7-42DA-BB89-03DA0963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EF6C-8628-4F84-8DCE-35AF5512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D41-F1CA-4566-A711-238AAA77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E8D-EDFD-4B99-A2FC-635BE24A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D8D0E-E349-48B0-800C-954754B651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