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51642"/>
        <c:axId val="54808871"/>
      </c:barChart>
      <c:catAx>
        <c:axId val="934516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08871"/>
        <c:crosses val="autoZero"/>
        <c:auto val="1"/>
        <c:lblAlgn val="ctr"/>
        <c:lblOffset val="100"/>
        <c:noMultiLvlLbl val="0"/>
      </c:catAx>
      <c:valAx>
        <c:axId val="54808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16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62D-DDF5-42CA-B941-18EEEB9D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6D9-CB73-48B6-813D-A702902F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B03-D7BE-4175-9913-59AB8A0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27E-986A-4963-9F56-BEF6A085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F26-DB71-4FBB-963A-AF504115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900-8C65-470B-9363-8790411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C6D-E6F4-4120-A92F-3BCCC077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9B3-A57B-42F2-8852-0CA50350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91A-845F-42D5-8628-992D6A3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C45-4C21-4829-953E-9A78819A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EBF-B73B-4A0F-940A-CEEEC1E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079-6B99-4D89-8A9D-9037124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8B2E1-7AAF-4B7E-B890-EA18DDBE54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