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247987"/>
        <c:axId val="81151809"/>
      </c:barChart>
      <c:catAx>
        <c:axId val="742479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151809"/>
        <c:crosses val="autoZero"/>
        <c:auto val="1"/>
        <c:lblAlgn val="ctr"/>
        <c:lblOffset val="100"/>
        <c:noMultiLvlLbl val="0"/>
      </c:catAx>
      <c:valAx>
        <c:axId val="81151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479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D306-10AB-4379-AE7A-C85152D8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163-6440-4676-B201-52C0BE57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9D83-DE25-48D3-8C6B-25DB2AEC7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2EC4-C08C-4F71-9746-FBEEEEC47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5C61-863D-4748-98D6-91C08153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B045-A2D0-4A3D-A78B-4B02E0C99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F3E3-BB87-4E2C-BCED-5D999668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053-75FD-46A8-BD77-E02B4094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76B4-9E96-4C93-B17A-DC468DC9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557A-DD30-47F1-81E0-18B6A858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9F1C-C81D-44B6-B991-D2869425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F66C-DEB3-435C-B211-3952937E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15D36E-7178-4C88-A3E5-E07007A2B7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