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97209"/>
        <c:axId val="3679809"/>
      </c:barChart>
      <c:catAx>
        <c:axId val="37097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9809"/>
        <c:crosses val="autoZero"/>
        <c:auto val="1"/>
        <c:lblAlgn val="ctr"/>
        <c:lblOffset val="100"/>
        <c:noMultiLvlLbl val="0"/>
      </c:catAx>
      <c:valAx>
        <c:axId val="3679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7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53E-9A98-4129-813E-BFD8D1BC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381-1F19-4BBC-B824-4D56DB2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61D-F147-4677-AAAA-F2C1F836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E28-9400-4659-8EC0-70778D2E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F76-0B29-490F-8C39-B626796B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B91-C369-4F8B-A5CD-40855B2E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61B-CCE8-4C5F-8707-487F827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955-605C-438F-B4C9-20C2B7CF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04F-C6CD-4CA5-B923-1E0D5B4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509-66E9-46EE-B925-C797A50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F35-A0A3-4508-A9A8-569236D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B5C-0839-460D-BA46-4C386F8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CD9B2-51C5-4267-BDCF-0CC5FF6B7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