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20829"/>
        <c:axId val="49516269"/>
      </c:barChart>
      <c:catAx>
        <c:axId val="56920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16269"/>
        <c:crosses val="autoZero"/>
        <c:auto val="1"/>
        <c:lblAlgn val="ctr"/>
        <c:lblOffset val="100"/>
        <c:noMultiLvlLbl val="0"/>
      </c:catAx>
      <c:valAx>
        <c:axId val="49516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20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F2B-C191-4219-A3CE-3D178994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1AC-2310-45AD-8085-3C07DB6C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0BB-7C7F-49C2-9F29-30DC22F7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44A-B4CC-4390-B708-7F3F8523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E8D-84B5-4BFE-92A4-E2F87336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6BB-1ADA-4CF4-AF7D-F0AAAB4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A84-6667-4A69-A6B5-69671E3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FE3-C5C5-4554-B80E-1138D7A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725-1FE9-4C83-B9F5-63061BD1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B67-6743-4BCD-8467-0B5E9764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DB3-689C-458D-BE32-94DE6E75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DFD-0F2E-4954-B679-95C6AAFE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A5529-4826-47DD-A257-46F85AED70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