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91385"/>
        <c:axId val="50936556"/>
      </c:barChart>
      <c:catAx>
        <c:axId val="36491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6556"/>
        <c:crosses val="autoZero"/>
        <c:auto val="1"/>
        <c:lblAlgn val="ctr"/>
        <c:lblOffset val="100"/>
        <c:noMultiLvlLbl val="0"/>
      </c:catAx>
      <c:valAx>
        <c:axId val="50936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91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4D7-5931-4874-9E6D-B85AB4A3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9E0-0594-4236-A7E6-5BF8F181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CC6-0F0C-4C9E-BE9E-9D4908A1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DD1-3E87-499D-84B6-2D5AED94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3D4-D5BA-4BC6-92BC-7527092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0D5-1F48-4AC4-9CB2-5BD8803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F52-415B-400E-B009-E4CF208B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6F5-E8B6-4A07-9E78-661B166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B3B-A6D8-4328-A429-C3C455FE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39E-2CAB-4DB9-95B8-53EF6EE6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663-27FA-458E-8701-8E4195C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955-DEB5-42CF-AFEC-B71CDF3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A0EA3-C415-4D15-AF76-A1A4C2A6A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