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22413"/>
        <c:axId val="40180958"/>
      </c:barChart>
      <c:catAx>
        <c:axId val="90722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80958"/>
        <c:crosses val="autoZero"/>
        <c:auto val="1"/>
        <c:lblAlgn val="ctr"/>
        <c:lblOffset val="100"/>
        <c:noMultiLvlLbl val="0"/>
      </c:catAx>
      <c:valAx>
        <c:axId val="40180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22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7BD-4660-4BE7-BD0B-9ECC3228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D4C-5B20-4CA8-8AAA-A3CBF590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4CA-B72A-4ABC-B088-10DF8003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F5A-1370-45ED-8358-5F2E6264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FE4-BF88-480A-93F5-ECFAD29E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24A-F2D2-446A-B1F1-6D352674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42A-86B5-476B-BB8A-E1E148DA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FE6-A93B-4094-9131-9A68D0C0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22A-159C-498D-B8BA-98570F45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8EA-7A64-4B04-9FA6-A2F2AD4F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4CA-5CCA-44B5-856E-EB2D2EB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2AD-C222-4D74-9F2F-ED66E11C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65926-CF39-4857-8D15-AF98DA51DF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