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11057"/>
        <c:axId val="44562734"/>
      </c:barChart>
      <c:catAx>
        <c:axId val="46011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62734"/>
        <c:crosses val="autoZero"/>
        <c:auto val="1"/>
        <c:lblAlgn val="ctr"/>
        <c:lblOffset val="100"/>
        <c:noMultiLvlLbl val="0"/>
      </c:catAx>
      <c:valAx>
        <c:axId val="44562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11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3B0-C6BC-47B4-82EE-7287779E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573-6479-451C-AD59-60C1034A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68B-8272-4CB5-859A-96B4A6F9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FC0-9ACC-4489-87B1-C6945975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FC4-14BE-473B-B2CA-B5643217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E0A-2C96-4D60-BFE4-BC3A2962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9EB-C4B1-45C5-840D-B144CC13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09A-F9E8-4AB7-B6C9-7B84A630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5EC-3C72-4E29-999A-CCEBF29C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2D2-04B3-447A-A983-326B1D5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FDB-EF95-415B-880A-0D739A4B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25D-6B96-4B32-AB76-18A1AC6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34A57-777F-48D8-AEA8-1254B02057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