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94392"/>
        <c:axId val="69350496"/>
      </c:barChart>
      <c:catAx>
        <c:axId val="572943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50496"/>
        <c:crosses val="autoZero"/>
        <c:auto val="1"/>
        <c:lblAlgn val="ctr"/>
        <c:lblOffset val="100"/>
        <c:noMultiLvlLbl val="0"/>
      </c:catAx>
      <c:valAx>
        <c:axId val="693504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943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168-7730-4734-94E5-0BF635A8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6A41-2211-4E54-B0D2-AAD381AF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782-88C0-4651-BACD-95509227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133-2B09-475E-B876-67BEBC36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AF7-30EB-4A6E-B551-9F76A47F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84A2-1B43-4E3A-BBA8-1D44D74F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F39-D382-43C2-8ED7-4C956212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ED2A-94DF-4B79-8C55-F5D747B8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A765-3756-4237-A08F-BEC0FB44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BDE-D0CE-4242-B584-52184294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B1D8-3E11-475C-AB7E-11063065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9425-5D72-4DF7-A1B9-E912F8D5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4EB00-5B16-4497-8E83-300F0A42F3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