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72345"/>
        <c:axId val="55040788"/>
      </c:barChart>
      <c:catAx>
        <c:axId val="87772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40788"/>
        <c:crosses val="autoZero"/>
        <c:auto val="1"/>
        <c:lblAlgn val="ctr"/>
        <c:lblOffset val="100"/>
        <c:noMultiLvlLbl val="0"/>
      </c:catAx>
      <c:valAx>
        <c:axId val="55040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72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37D-C91C-47CB-A411-3BC4A197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D69-D634-4E45-9A88-02A097F2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E75-B1FA-4A29-80D6-D79ADE53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7EA-B9E1-409B-9877-CDAE13CC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30D-51AA-49F1-9F4A-B5EAD7F7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A3D-B4C1-4D3E-A536-76C98AAE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9E0-71FE-4C0E-8E9A-F31A2281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F09-4C8F-4313-A8AD-C219988E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A6A-0923-45EA-8609-DE19393B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348-AC3E-460A-8CE6-AB134C32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50B-C463-4FA9-A422-53128333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2CE-61FC-44ED-AE58-2C6A3BF1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BF73A-55D8-4E91-83B6-6F41D9CA2B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