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2006954"/>
        <c:axId val="61430180"/>
      </c:barChart>
      <c:catAx>
        <c:axId val="9200695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1430180"/>
        <c:crosses val="autoZero"/>
        <c:auto val="1"/>
        <c:lblAlgn val="ctr"/>
        <c:lblOffset val="100"/>
        <c:noMultiLvlLbl val="0"/>
      </c:catAx>
      <c:valAx>
        <c:axId val="6143018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200695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93077-760E-4282-B682-4A961EA27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FE4D4-0F9B-4A56-9AD7-1B2A2ADFA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93FFA-E0B4-4BA6-8DF6-3FBCE71C0B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57CA4-3A9A-45DB-A6FB-1E9649F0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8107-F12D-4C55-9E0A-FE42892731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9EADE-C688-437D-8A02-E941943AC5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D0998-D919-4C4F-954A-374F18277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6F2C0-2E52-4071-8A3F-799A1ACC9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8867A-F72D-4800-9EF6-608E96E9F3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4FEF9-AB6B-4EDC-94B7-91613E58D6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4433B-BDC2-4D2F-9EC0-5B275478BC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C2169-B3C3-4094-99EC-20DC372DC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1C9FFA-5510-4356-A86A-FF8D9A66099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