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18871"/>
        <c:axId val="44413744"/>
      </c:barChart>
      <c:catAx>
        <c:axId val="1611887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413744"/>
        <c:crosses val="autoZero"/>
        <c:auto val="1"/>
        <c:lblAlgn val="ctr"/>
        <c:lblOffset val="100"/>
        <c:noMultiLvlLbl val="0"/>
      </c:catAx>
      <c:valAx>
        <c:axId val="444137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1887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C1B674-F28B-46C4-9A8C-E396A0E5B2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697FB-0B1E-4F03-99FC-B95C8C283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E49A9-AE87-4455-8468-52BF86A82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53D69-2C39-423F-8348-AE002498E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23975-8331-42CA-802F-F9C568B1E3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4A6DB-8088-48AF-BDD8-3EF5A495AD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23710-3785-45AB-8B73-9E7AB2E482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D7FA2-D67B-4907-A01B-656C5E5C1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14632-C578-499E-965F-A4EF517F65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BEF7-9824-4504-98B7-AF014943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2CD3A-BECF-4A08-9628-83D68BDB7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576B05-5A74-469E-9ECD-D2B0ECDB2C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37259C3-DF78-48AE-BA38-C2B64139361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