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55227"/>
        <c:axId val="25304525"/>
      </c:barChart>
      <c:catAx>
        <c:axId val="10755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04525"/>
        <c:crosses val="autoZero"/>
        <c:auto val="1"/>
        <c:lblAlgn val="ctr"/>
        <c:lblOffset val="100"/>
        <c:noMultiLvlLbl val="0"/>
      </c:catAx>
      <c:valAx>
        <c:axId val="25304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55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26E-B0FD-4D40-90C8-3014E68D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FF6-72CE-47BC-B7D8-749AD43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74B-3BDF-4030-91BA-27667642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4B0-B7FD-4C3A-B275-C53B98BA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CC3-06D2-452C-999E-91AE506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C73-1CE3-45A0-BA90-DC775334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D25-3A9A-450D-AD9D-108561D8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63D-CE94-422E-9F35-149C2A2D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B20-2E5A-42F7-B106-90CB6351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EAC-A38B-498B-9F66-FBE0523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2FC-8114-4234-81B6-A57BE70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84C-F3F9-4AB2-B6AF-E47D966D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B3CD3-9629-4CEC-8609-05538304F8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