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646158"/>
        <c:axId val="41015208"/>
      </c:barChart>
      <c:catAx>
        <c:axId val="346461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015208"/>
        <c:crosses val="autoZero"/>
        <c:auto val="1"/>
        <c:lblAlgn val="ctr"/>
        <c:lblOffset val="100"/>
        <c:noMultiLvlLbl val="0"/>
      </c:catAx>
      <c:valAx>
        <c:axId val="410152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6461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E212-C057-4053-BBFF-DCD76BE19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2ACD-2FDA-4DC4-94DC-A99DCB779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EB68-1FC7-4D16-9DDD-DE2E8CCC1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DD01-DBA3-45AA-B59F-8C489D924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40EA-836B-444B-98B7-0C9B0A2A2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6C7B-348C-48B7-80D7-3089E43CD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9808-69E1-4063-8897-4271C4E2C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46AB-EA1D-44AA-ABB7-5666C8F9A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96B8-645B-40C7-8836-B53D5D47F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9330-2341-4839-96F0-B492265D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7540-F1D4-4332-B690-D083D6D1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CAFE-C0E5-4E2E-9642-EDBB6DC9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6C188E-A178-4FB9-8E38-A3D10EBCAD6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