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74554"/>
        <c:axId val="58978402"/>
      </c:barChart>
      <c:catAx>
        <c:axId val="95745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978402"/>
        <c:crosses val="autoZero"/>
        <c:auto val="1"/>
        <c:lblAlgn val="ctr"/>
        <c:lblOffset val="100"/>
        <c:noMultiLvlLbl val="0"/>
      </c:catAx>
      <c:valAx>
        <c:axId val="589784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745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3226-E9E2-4DF5-9B5E-D0CFE9E4F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9D0B-2C37-426C-82C0-BE93AE31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715D-345C-47FC-AE71-D54ED28CD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17A9-ADFD-45D6-AE4E-7BAD3E597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95EB-8765-4F72-BF3F-A510A847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0FA3-B81B-4A17-A2AE-035B0177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FC7A-894D-41EE-BBB5-8016B74E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4687-C615-4274-8A0E-D7BE2ED8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7A35-68AA-460D-8650-3E5CA7E7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A01B-931B-41FF-A0C6-56480AE0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DACE-A9A2-4A0D-B802-659E586B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CA62-4ACA-44DD-B6B7-9C95C3C5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2DF6F-2FD0-4ED0-8890-838041DF6F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