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67067"/>
        <c:axId val="6474789"/>
      </c:barChart>
      <c:catAx>
        <c:axId val="58567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789"/>
        <c:crosses val="autoZero"/>
        <c:auto val="1"/>
        <c:lblAlgn val="ctr"/>
        <c:lblOffset val="100"/>
        <c:noMultiLvlLbl val="0"/>
      </c:catAx>
      <c:valAx>
        <c:axId val="6474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7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6EB-F9C9-4B59-8F6F-1E1A8E11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F84-A19F-4A39-83F0-8D118935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B92-BEB2-4495-AC91-DBD9F503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677-AAE8-49B0-BDAA-D6AFC0F8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C13-1A3C-4640-A9FC-284F96E9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1B3-9B00-4534-9695-062BE865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7B8-D180-4DE1-9BEB-1BD471BF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7C1-12F4-4648-B06D-9C05D4F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2E0-66A5-455A-A7A7-BEAB0A4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853-26B0-4629-8ABE-73D43EA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694-6C24-4BB4-82F0-5DFDFE1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5C1-A843-4526-A051-580F9A7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96FE5-9452-4D11-ACC1-845CA1822E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